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732990-C762-4A76-852D-8C62709842A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6D7852-E541-4B71-8F2F-62AC1E1229A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17600" y="776160"/>
            <a:ext cx="266400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754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D3B024-5D88-4DA2-9ADD-B2F0A0C5FBF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17600" y="776160"/>
            <a:ext cx="266400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754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4F5AF9-816D-489A-BB8D-F6E39434D7D4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17600" y="776160"/>
            <a:ext cx="266400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754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FE3E5D-E4EA-40C5-9F9E-4CA50D53957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17600" y="776160"/>
            <a:ext cx="266400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754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2729D6-BB94-4982-AEC2-946B442C71F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17600" y="776160"/>
            <a:ext cx="266400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754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D85253-4AB0-4847-B78A-271F2D777BA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17600" y="776160"/>
            <a:ext cx="266400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09200" y="4862160"/>
            <a:ext cx="56754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B9E-6497-43B2-8483-25709077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828-6677-4A47-8951-4847BA8F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9126-1C0E-43CB-AE9A-3EAC8973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B1C-2C5D-4E9C-8631-D232062D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482-9872-4806-834F-C5EBCAFA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B58-672D-456B-BF90-19F15895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07B-3105-414A-A818-5E9EAE66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283-40D9-4F01-B59B-B2F9D8B2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0D07-B1BA-4EC7-B0B1-468EED21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E0E-341E-42ED-BC0A-63C642ED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16CD-0A10-4164-BCB7-56A7FC1A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A2F9-1232-4D56-8D13-60179280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e6f9e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DD70-0485-4503-A80E-3BF281F6E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e6f9e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4724280"/>
            <a:ext cx="5832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Black"/>
              </a:rPr>
              <a:t>I controlli ufficiali nella filiera aliment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64000" y="5734080"/>
            <a:ext cx="3780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anluca Mezzad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nico della prevenzione nell’ambiente e nei luoghi di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142920"/>
            <a:ext cx="1979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 Tecnico della prevenzione: una professione in evoluzio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7 otto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66992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e6f9e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viluppo competenze valutative nel settore della sicurezza alimen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 D.G.R. 2035 del 12/12/2005 è stato approvato il progetto che prevedeva tre obiettivi principa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are ai servizi SIAN e SVET un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modello di lavoro in qualità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(formazione del personale, definizione di procedure di controllo, sistema delle verifiche interne, ecc.) rispondente al Reg. 882/04 e quindi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riconducibile allo standard della ISO 17020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efinire un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“Percorso di Qualificazione” per ispettori ed auditor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per l’esecuzione dei controlli ufficiali (ispezioni e audit) sugli O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mpostare un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sistema di verific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dei SIAN e SVET delle AUSL regionali, mediante l’organizzazione di 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programma regolare di Audit di sistema sui Serviz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gestito dal Servizio Veterinario e Igiene Alimenti Regionale insieme alla ASR, formando ed utilizzando un gruppo di “Auditors” qualific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Mezzad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35E-51CF-4408-AD82-409AE8BB35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ologna, 7 ottobre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e6f9e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Formazione e qualificazione del Person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“Qualificazione” del personale passa attraverso la fase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ddestramento sul campo (con tutor ASR e/o consulen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rifica della competenza acquis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antenimento delle compet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Mezzad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3B4-E628-4DEF-96EE-E3F3D63511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ologna, 7 ottobre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e6f9e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3300"/>
                </a:solidFill>
                <a:latin typeface="Arial"/>
              </a:rPr>
              <a:t>Qualifiche necessarie per eseguire i controlli ufficiali in Emilia-Romag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916280"/>
            <a:ext cx="2521080" cy="1584000"/>
          </a:xfrm>
          <a:prstGeom prst="rect">
            <a:avLst/>
          </a:prstGeom>
          <a:solidFill>
            <a:srgbClr val="ffff99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spettore su 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uditor su 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149720"/>
            <a:ext cx="2521080" cy="1584360"/>
          </a:xfrm>
          <a:prstGeom prst="rect">
            <a:avLst/>
          </a:prstGeom>
          <a:solidFill>
            <a:srgbClr val="ffff99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uditor sui servi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IAN e S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11640" y="1484280"/>
            <a:ext cx="4608360" cy="2305080"/>
          </a:xfrm>
          <a:prstGeom prst="rect">
            <a:avLst/>
          </a:prstGeom>
          <a:solidFill>
            <a:srgbClr val="ffff99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seguono attività di controllo uffi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Ispezione e Ispezione + Audit) pr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li OSA ai sensi del reg. 882/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ducono tali attività in conformità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istema procedurale della AUS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4968720" cy="230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segue attività di audit ai sensi del r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882/04, Audit interni(art. 4 commi 6 e art.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a 3) ed Audit esterni (art. 4 commi 3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6) presso i Servizi SIAN/SVET per c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la Reg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ali attività sono condotte per valu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 conformità dei singoli Servizi SIAN/S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gli standard regionali di funzion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4672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6360" y="2438280"/>
            <a:ext cx="1295280" cy="486000"/>
          </a:xfrm>
          <a:prstGeom prst="rightArrow">
            <a:avLst>
              <a:gd name="adj1" fmla="val 50000"/>
              <a:gd name="adj2" fmla="val 66630"/>
            </a:avLst>
          </a:prstGeom>
          <a:solidFill>
            <a:srgbClr val="ffff99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Mezzad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2F0-6012-47D0-B430-7BFF402FD2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ologna, 7 ottobre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e6f9e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072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stratto procedura Azienda USL Pa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19280" y="709560"/>
            <a:ext cx="583236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Mezzad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987-537C-4B28-86B0-75A590BE98A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ologna, 7 ottobre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e6f9e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7636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Arial"/>
              </a:rPr>
              <a:t>Scheda</a:t>
            </a:r>
            <a:br>
              <a:rPr sz="3200"/>
            </a:br>
            <a:r>
              <a:rPr b="1" lang="it-IT" sz="3200" spc="-1" strike="noStrike">
                <a:solidFill>
                  <a:srgbClr val="cc3300"/>
                </a:solidFill>
                <a:latin typeface="Arial"/>
              </a:rPr>
              <a:t>Controllo Ufficiale SIAN Ausl Pa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56000" y="138240"/>
            <a:ext cx="6480000" cy="609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Mezzadr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99E-2304-4663-8A7D-30236DC1470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ologna, 7 ottobre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e6f9e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42920" y="539100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4720" y="260280"/>
            <a:ext cx="7056360" cy="516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Mezzad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C69-13FA-4C24-9CCB-6C9B05625F9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ologna, 7 ottobre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e6f9e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2200" y="227484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base alla definizione sintetica dell'Unione Europea e dell'Organizzazione Mondiale della Sanità (OMS), la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icurezza aliment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è una responsabilità condivisa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al campo alla tavo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20808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ahoma"/>
              </a:rPr>
              <a:t>La sicurezza aliment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Mezzad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B42-870E-4F67-AB7D-4C0898E036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ologna, 7 ottobre 201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e6f9e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2200" y="155736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 comma 1 dell’articolo 2, del Regolamento CE 882/04, fornisce la seguente definizione:</a:t>
            </a:r>
            <a:r>
              <a:rPr b="1" lang="en-GB" sz="28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qualsiasi forma di controllo eseguita dall'autorità competente o dalla Comunità per la verifica della conformità alla normativa in materia di mangimi e di alimenti e alle norme sulla salute e sul benessere degli animali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208080"/>
            <a:ext cx="61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ahoma"/>
              </a:rPr>
              <a:t>Il controllo uffic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Mezzad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690-C049-413A-80E7-3C3E04ED1B3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ologna, 7 ottobre 201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e6f9e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1268280"/>
            <a:ext cx="84978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’attività di controllo ufficiale da parte dei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Servizi igiene degli alimenti e nutrizione (SIAN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e dei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Servizi veterinari (SVET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ei Dipartimenti di sanità pubblica delle Aziende USL viene svolta nell’ambito di quanto previsto dalla regolamentazione comunitaria e nazionale e da quella dei Paesi terzi con cui esistono accordi di equivalenza, utilizzando le tecniche e le modalità di controllo appropriate e mediante la proceduralizzazione delle attiv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’oggetto dei controlli ufficiali nel campo della sicurezza alimentare è l’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operatore del settore alimentare (OS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rispetto alla fase della filiera alimentare in cui esercita la sua attiv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208080"/>
            <a:ext cx="61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ahoma"/>
              </a:rPr>
              <a:t>Il controllo uffic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Mezzad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819-DDF5-49B5-A62D-6FDE2B8CAC6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ologna, 7 ottobre 201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e6f9e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33336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Attività, metodi e tecniche di contro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371600"/>
            <a:ext cx="87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 compiti correlati ai controlli ufficiali sono eseguiti, in generale, usando metodi e tecniche di controllo appropriati qu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cc3300"/>
                </a:solidFill>
                <a:latin typeface="Tahoma"/>
              </a:rPr>
              <a:t>Monito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cc3300"/>
                </a:solidFill>
                <a:latin typeface="Tahoma"/>
              </a:rPr>
              <a:t>Sorvegli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cc3300"/>
                </a:solidFill>
                <a:latin typeface="Tahoma"/>
              </a:rPr>
              <a:t>Veri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cc3300"/>
                </a:solidFill>
                <a:latin typeface="Tahoma"/>
              </a:rPr>
              <a:t>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cc3300"/>
                </a:solidFill>
                <a:latin typeface="Tahoma"/>
              </a:rPr>
              <a:t>Ispe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cc3300"/>
                </a:solidFill>
                <a:latin typeface="Tahoma"/>
              </a:rPr>
              <a:t>Camp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cc3300"/>
                </a:solidFill>
                <a:latin typeface="Tahoma"/>
              </a:rPr>
              <a:t>Anal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Mezzad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E36-5661-4767-ADC2-7E3F6B24DBE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ologna, 7 ottobre 201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e6f9e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2200" y="1773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audi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“un esame sistematico e indipendente per accertare se determinate attività e i risultati correlati siano conformi alle disposizioni previste, se tali disposizioni siano attuate in modo efficace e siano adeguate per raggiungere determinati obiettivi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ispezio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“l’esame di qualsiasi aspetto relativo ai mangimi, agli alimenti, alla salute e al benessere degli animali per verificare che tali aspetti siano conformi alle prescrizioni di legge relative ai mangimi, agli alimenti, alla salute e al benessere degli animal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208080"/>
            <a:ext cx="61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Tahoma"/>
              </a:rPr>
              <a:t>Ispezioni e Au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Mezzad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36A1-5350-4DF1-8C3C-61FF16F09F4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ologna, 7 ottobre 201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e6f9e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1400040"/>
            <a:ext cx="849780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’ispezione tende a valutare il risultato di un singolo processo e/o il prodotto derivato ed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è una valutazione che si riferisce al preciso momento in cui viene fatt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’audit riguarda l’insieme dei processi (gestionali e operativi) e la loro interazione, ai fini di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valutare l’affidabilità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raggiungere gli standard di sicurezza previsti) dell’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intero sistema di produzione e la capacità di mantenere tale affidabilità nel temp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’attività di audit, nel settore della sicurezza alimentare, focalizza l’attenzione sulla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raccolta delle evidenz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relative al fatto che l’OSA sia in grado di identificare nella sua organizzazione e nei suoi processi collegati alla sicurezza degli alimenti, ogni area potenziale di miglior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so deve identificare, inoltre, le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are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ell’OSA che hanno anomalie e le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azion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e devono essere implementate per corregger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7080" y="20808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Ispezioni e Au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Mezzadr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8585-558B-4FFD-A6E9-A73EDB44B89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ologna, 7 ottobre 201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e6f9e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egolamento CE 882/2004 prevede specifiche garanzie nel funzionamento delle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utorità Competen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e garanzie, in estrema sintesi, consistono nella costruzione e mantenimento di un “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istema qualit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, rispondente ai “criteri di accreditamento”degli organismi di cui alle norme della serie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SO 17.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iguardanti gli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rganismi di Ispezione e Certific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79960" y="2452680"/>
            <a:ext cx="3175200" cy="2819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692000" y="18864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utorità compet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Mezzad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872-46A8-404F-BFE0-D8BD7FC6F9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ologna, 7 ottobre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e6f9ef"/>
            </a:gs>
            <a:gs pos="100000">
              <a:srgbClr val="00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Esigenze per la qualità nella sicurezza aliment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782720"/>
            <a:ext cx="69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“sistema qualità dell’AC” comprend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tture ed attrezz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procedurale dei contro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fica ed indipendenza del pers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di registrazione delle attiv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16720" y="3619440"/>
            <a:ext cx="2314440" cy="22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anluca Mezzadr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499-36FB-4C4E-A5AC-75AFFA0FD2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ologna, 7 ottobre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9:24:42Z</dcterms:created>
  <dc:creator>Gianluca Mezzadri</dc:creator>
  <dc:description/>
  <dc:language>en-US</dc:language>
  <cp:lastModifiedBy>Gianluca Mezzadri</cp:lastModifiedBy>
  <dcterms:modified xsi:type="dcterms:W3CDTF">2011-10-01T17:13:20Z</dcterms:modified>
  <cp:revision>35</cp:revision>
  <dc:subject/>
  <dc:title>I controlli ufficiali nella filiera alimentare</dc:title>
</cp:coreProperties>
</file>